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48920" y="965160"/>
            <a:ext cx="506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-357120"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01680" y="4784760"/>
            <a:ext cx="537048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415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2240" y="4624920"/>
            <a:ext cx="8415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4320" y="2138040"/>
            <a:ext cx="4106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2240" y="4624920"/>
            <a:ext cx="4106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4320" y="4624920"/>
            <a:ext cx="4106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2709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320" y="2138040"/>
            <a:ext cx="2709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2760" y="2138040"/>
            <a:ext cx="2709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2240" y="4624920"/>
            <a:ext cx="2709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320" y="4624920"/>
            <a:ext cx="2709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2760" y="4624920"/>
            <a:ext cx="2709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2240" y="2138040"/>
            <a:ext cx="8415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415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5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4320" y="2138040"/>
            <a:ext cx="41065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4320" y="2138040"/>
            <a:ext cx="41065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2240" y="4624920"/>
            <a:ext cx="4106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52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4320" y="2138040"/>
            <a:ext cx="4106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4320" y="4624920"/>
            <a:ext cx="4106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4320" y="2138040"/>
            <a:ext cx="41065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2240" y="4624920"/>
            <a:ext cx="8415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2240" y="2138040"/>
            <a:ext cx="8415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1480" indent="-430200">
              <a:lnSpc>
                <a:spcPct val="87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9120" indent="-432000">
              <a:lnSpc>
                <a:spcPct val="87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7840" indent="-430200">
              <a:lnSpc>
                <a:spcPct val="87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5120" indent="-430200">
              <a:lnSpc>
                <a:spcPct val="87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54200" indent="-432000">
              <a:lnSpc>
                <a:spcPct val="87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54200" indent="-432000">
              <a:lnSpc>
                <a:spcPct val="87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54200" indent="-432000">
              <a:lnSpc>
                <a:spcPct val="87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428760"/>
            <a:ext cx="907236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6840"/>
                <a:tab algn="l" pos="554040"/>
                <a:tab algn="l" pos="1011240"/>
                <a:tab algn="l" pos="1468440"/>
                <a:tab algn="l" pos="1925640"/>
                <a:tab algn="l" pos="2382840"/>
                <a:tab algn="l" pos="2840040"/>
                <a:tab algn="l" pos="3297240"/>
                <a:tab algn="l" pos="3754440"/>
                <a:tab algn="l" pos="4211640"/>
                <a:tab algn="l" pos="4668840"/>
                <a:tab algn="l" pos="5126040"/>
                <a:tab algn="l" pos="5583240"/>
                <a:tab algn="l" pos="6040440"/>
                <a:tab algn="l" pos="6497640"/>
                <a:tab algn="l" pos="6954840"/>
                <a:tab algn="l" pos="7412040"/>
                <a:tab algn="l" pos="7869240"/>
                <a:tab algn="l" pos="8326440"/>
                <a:tab algn="l" pos="8783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Indonesi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1959120"/>
            <a:ext cx="90727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39760"/>
                <a:tab algn="l" pos="696960"/>
                <a:tab algn="l" pos="1154160"/>
                <a:tab algn="l" pos="1611360"/>
                <a:tab algn="l" pos="2068560"/>
                <a:tab algn="l" pos="2525760"/>
                <a:tab algn="l" pos="2982960"/>
                <a:tab algn="l" pos="3440160"/>
                <a:tab algn="l" pos="3897360"/>
                <a:tab algn="l" pos="4354560"/>
                <a:tab algn="l" pos="4811760"/>
                <a:tab algn="l" pos="5268960"/>
                <a:tab algn="l" pos="5726160"/>
                <a:tab algn="l" pos="6183360"/>
                <a:tab algn="l" pos="6640560"/>
                <a:tab algn="l" pos="7097760"/>
                <a:tab algn="l" pos="7554960"/>
                <a:tab algn="l" pos="8012160"/>
                <a:tab algn="l" pos="8469360"/>
                <a:tab algn="l" pos="8926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99284c"/>
                </a:solidFill>
                <a:latin typeface="Arial"/>
              </a:rPr>
              <a:t>All about Indonesia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36720" y="1619280"/>
            <a:ext cx="388620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4495680"/>
            <a:ext cx="2286000" cy="259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543800" y="1276200"/>
            <a:ext cx="2286000" cy="283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486400" y="5029200"/>
            <a:ext cx="2514600" cy="2057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3000"/>
              </a:lnSpc>
              <a:buNone/>
              <a:tabLst>
                <a:tab algn="l" pos="0"/>
                <a:tab algn="l" pos="35712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FOOD</a:t>
            </a:r>
            <a:br>
              <a:rPr sz="4000"/>
            </a:b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25040" y="2185920"/>
            <a:ext cx="841860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142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99284c"/>
                </a:solidFill>
                <a:latin typeface="Arial"/>
              </a:rPr>
              <a:t>In Indonesia a lot of people like spicy food because they say they become chill and another interesting point is most of the time they eat with hands.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6100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5029200"/>
            <a:ext cx="251460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905440" y="1276200"/>
            <a:ext cx="3009960" cy="2152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610320" y="5029200"/>
            <a:ext cx="161928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6400" y="6854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3000"/>
              </a:lnSpc>
              <a:buNone/>
              <a:tabLst>
                <a:tab algn="l" pos="0"/>
                <a:tab algn="l" pos="35712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The place that represents Indonesi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25040" y="1957320"/>
            <a:ext cx="841860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142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284c"/>
                </a:solidFill>
                <a:latin typeface="Arial"/>
              </a:rPr>
              <a:t>The Monas is a place that represents Indonesia. It is a really tall building. If you go inside you can see the weapons that they used in Indonesia. </a:t>
            </a:r>
            <a:r>
              <a:rPr b="0" lang="en-GB" sz="3200" spc="-1" strike="noStrike">
                <a:solidFill>
                  <a:srgbClr val="99284c"/>
                </a:solidFill>
                <a:latin typeface="Arial"/>
                <a:ea typeface="굴림"/>
              </a:rPr>
              <a:t>I</a:t>
            </a:r>
            <a:r>
              <a:rPr b="0" lang="en-GB" sz="3200" spc="-1" strike="noStrike">
                <a:solidFill>
                  <a:srgbClr val="99284c"/>
                </a:solidFill>
                <a:latin typeface="Arial"/>
              </a:rPr>
              <a:t>f you go to the ground of Monas you can see the jails where prisons were caged.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0" y="502920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6360" y="5364000"/>
            <a:ext cx="2371680" cy="1828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335640" y="1258920"/>
            <a:ext cx="32004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93000"/>
              </a:lnSpc>
              <a:buNone/>
              <a:tabLst>
                <a:tab algn="l" pos="0"/>
                <a:tab algn="l" pos="35712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Religion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440" y="1728720"/>
            <a:ext cx="841860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21420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284c"/>
                </a:solidFill>
                <a:latin typeface="Arial"/>
              </a:rPr>
              <a:t>Most of the people in Indonesian religion is Islamic. They pray </a:t>
            </a:r>
            <a:r>
              <a:rPr b="0" lang="en-US" sz="3200" spc="-1" strike="noStrike">
                <a:solidFill>
                  <a:srgbClr val="99284c"/>
                </a:solidFill>
                <a:latin typeface="Arial"/>
                <a:ea typeface="굴림"/>
              </a:rPr>
              <a:t>five</a:t>
            </a:r>
            <a:r>
              <a:rPr b="0" lang="ko-KR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99284c"/>
                </a:solidFill>
                <a:latin typeface="Arial"/>
              </a:rPr>
              <a:t>times a day. Islamic people don’t eat pig meat. The Islamic p</a:t>
            </a:r>
            <a:r>
              <a:rPr b="0" lang="en-GB" sz="3200" spc="-1" strike="noStrike">
                <a:solidFill>
                  <a:srgbClr val="99284c"/>
                </a:solidFill>
                <a:latin typeface="Arial"/>
                <a:ea typeface="굴림"/>
              </a:rPr>
              <a:t>eo</a:t>
            </a:r>
            <a:r>
              <a:rPr b="0" lang="en-GB" sz="3200" spc="-1" strike="noStrike">
                <a:solidFill>
                  <a:srgbClr val="99284c"/>
                </a:solidFill>
                <a:latin typeface="Arial"/>
              </a:rPr>
              <a:t>ple don’t like dog because they think that dogs are dirty so instead of dogs they like cat that why if you go to Indonesia there is a</a:t>
            </a:r>
            <a:r>
              <a:rPr b="0" lang="en-GB" sz="3200" spc="-1" strike="noStrike">
                <a:solidFill>
                  <a:srgbClr val="99284c"/>
                </a:solidFill>
                <a:latin typeface="Arial"/>
                <a:ea typeface="굴림"/>
              </a:rPr>
              <a:t> </a:t>
            </a:r>
            <a:r>
              <a:rPr b="0" lang="en-GB" sz="3200" spc="-1" strike="noStrike">
                <a:solidFill>
                  <a:srgbClr val="99284c"/>
                </a:solidFill>
                <a:latin typeface="Arial"/>
              </a:rPr>
              <a:t>lot of cats walking.  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76360" y="5776920"/>
            <a:ext cx="4753080" cy="1782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7120"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Famous people  Indonesia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8415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r.Lee</cp:lastModifiedBy>
  <dcterms:modified xsi:type="dcterms:W3CDTF">2008-03-09T19:17:00Z</dcterms:modified>
  <cp:revision>2</cp:revision>
  <dc:subject/>
  <dc:title>슬라이드 1</dc:title>
</cp:coreProperties>
</file>